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DE0-F85D-4792-81FF-F17AE6A7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D1F-EB88-45FA-BA03-49D5BF12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8FC-B36F-464E-9BCD-4FDB04E3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9EA-AF87-4697-8EDB-6203EF90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28A-32F3-4DCF-A185-42670F2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984-9799-40C6-AFD5-E8FDDAD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64F-3592-457C-9992-5992A7A7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399-A82C-417D-A3A1-BCF44924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135-1242-45BF-BC85-7782106B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DFE-76E8-43A3-8577-494A852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103-BC5D-449D-A5BD-BABEE18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2E9-F83B-4D96-883F-712343CF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DB7E-D850-455B-AE01-AE463200C96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1180.20101116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0-11-16T14:10:58Z</dcterms:modified>
  <cp:revision>115</cp:revision>
  <dc:subject/>
  <dc:title>投影片 1</dc:title>
</cp:coreProperties>
</file>